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560-546F-4C92-94EE-D0BBD7B0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1BF-92B5-43EF-B776-303203AF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FDA-BA85-4397-B798-DA29894E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4A0-9FA4-4E93-A307-2D948C90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85E-EF54-4339-BAB5-25E180CF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CD3-F40D-4940-BBD5-D6E0A69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99C-E819-4FB7-991A-34CAD21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D22-0F17-4173-A1F4-23887BF3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25B-47F6-4C12-B57A-A871E46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729-D794-4802-BB64-21469C0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EF6-F9DC-4572-A9DE-E37DEBF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65C-B27D-40E1-A698-322B957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0172-547C-4EB7-A3CC-137519E18EE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765000"/>
            <a:ext cx="8207280" cy="482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Η μητέρα έφτιαξε φρουτοσαλάτα.  Έβαλε πολλά φρούτα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Ο αριθμός των φρούτω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Είναι μεγαλύτερος από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Είναι μικρότερος από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Δεν είναι 7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957680" cy="1690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84720" y="3860640"/>
            <a:ext cx="15829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765000"/>
            <a:ext cx="8207280" cy="482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Τα παιδιά έφαγαν πολλά μανταρίνια σήμερα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Ο αριθμός των μανταρινιών που έφαγα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Είναι μεγαλύτερος από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Είναι μικρότερος από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Δεν είναι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33720"/>
            <a:ext cx="15829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2781360"/>
            <a:ext cx="1280880" cy="128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67640" y="3429000"/>
            <a:ext cx="849240" cy="849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36000" y="4076640"/>
            <a:ext cx="920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765000"/>
            <a:ext cx="8207280" cy="482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Η μητέρα πήγε στη φρουταρία και αγόρασε ρόδ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Ο αριθμός των ροδιώ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Είναι μεγαλύτερος από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Είναι μικρότερος από 4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Δεν είναι 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933720"/>
            <a:ext cx="15829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2017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09:40Z</dcterms:created>
  <dc:creator>user</dc:creator>
  <dc:description/>
  <dc:language>en-US</dc:language>
  <cp:lastModifiedBy>user</cp:lastModifiedBy>
  <dcterms:modified xsi:type="dcterms:W3CDTF">2008-11-26T16:48:46Z</dcterms:modified>
  <cp:revision>1</cp:revision>
  <dc:subject/>
  <dc:title>Slide 1</dc:title>
</cp:coreProperties>
</file>