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applause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AD1-2EA6-435A-9DBB-2B3ED6EA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87B-5AB5-4462-BF9D-B576C63E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9BC-879A-480E-8B1E-FED6742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502-829E-4230-A87B-E9B3280E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469-89F0-46BA-9993-CB488FF0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C5C-E4C5-460D-8660-A8811590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71A-38EB-4013-AEE6-A542FBAD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9DA-AEAD-4813-8501-305F6B12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CC3-49F2-49E0-9890-D658EE1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C36-70DA-4616-B899-A9D9B5B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FB0-477D-4113-865B-94E4B5F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0F9-11FA-406A-9A53-97DF456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103E-B99F-4151-B86A-517B80F7062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53980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024360" cy="2771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63640" y="530064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ΠΡΟΣΩΠΟ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095640" cy="2841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19280" y="530064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ΜΑΓΟΥΛΑ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2952720" cy="2606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79640" y="530064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ΑΥΤΙ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2664000" cy="234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8000" y="530064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ΜΑΤΙ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42920" y="1197000"/>
            <a:ext cx="2476440" cy="25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76360" y="5300640"/>
            <a:ext cx="19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ΔΑΚΤΥΛΑ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1052640"/>
            <a:ext cx="243684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63640" y="530064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ΧΕΙΛΗ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095640" cy="2749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6360" y="53006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ΣΤΟΜΑ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3311640" cy="2692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92360" y="5300640"/>
            <a:ext cx="151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ΜΥΤΗ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2544840" cy="266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47640" y="530064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ΔΟΝΤΙΑ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08240" y="3429000"/>
            <a:ext cx="792000" cy="129528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1295280"/>
              <a:gd name="textAreaBottom" fmla="*/ 1256760 h 129528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16120" y="3441600"/>
            <a:ext cx="792360" cy="12956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295640"/>
              <a:gd name="textAreaBottom" fmla="*/ 1257120 h 1295640"/>
            </a:gdLst>
            <a:ahLst/>
            <a:rect l="textAreaLeft" t="textAreaTop" r="textAreaRight" b="textAreaBottom"/>
            <a:pathLst>
              <a:path w="21600" h="35313">
                <a:moveTo>
                  <a:pt x="3600" y="0"/>
                </a:moveTo>
                <a:arcTo wR="3600" hR="3600" stAng="16200000" swAng="-5400000"/>
                <a:lnTo>
                  <a:pt x="0" y="31713"/>
                </a:lnTo>
                <a:arcTo wR="3600" hR="3600" stAng="10800000" swAng="-5400000"/>
                <a:lnTo>
                  <a:pt x="18000" y="35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658800" y="765000"/>
            <a:ext cx="3313080" cy="3166920"/>
          </a:xfrm>
          <a:prstGeom prst="flowChartDelay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5084640"/>
            <a:ext cx="2808360" cy="1079640"/>
          </a:xfrm>
          <a:prstGeom prst="ellipse">
            <a:avLst/>
          </a:prstGeom>
          <a:solidFill>
            <a:srgbClr val="ffffff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537000"/>
                </a:solidFill>
                <a:latin typeface="Berlin Sans FB"/>
              </a:rPr>
              <a:t>ΤΟ ΣΩ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620640"/>
            <a:ext cx="4248360" cy="5616720"/>
          </a:xfrm>
          <a:custGeom>
            <a:avLst/>
            <a:gdLst>
              <a:gd name="textAreaLeft" fmla="*/ 500400 w 4248360"/>
              <a:gd name="textAreaRight" fmla="*/ 3747960 w 4248360"/>
              <a:gd name="textAreaTop" fmla="*/ 500400 h 5616720"/>
              <a:gd name="textAreaBottom" fmla="*/ 5116320 h 5616720"/>
            </a:gdLst>
            <a:ahLst/>
            <a:rect l="textAreaLeft" t="textAreaTop" r="textAreaRight" b="textAreaBottom"/>
            <a:pathLst>
              <a:path w="21600" h="28557">
                <a:moveTo>
                  <a:pt x="3600" y="0"/>
                </a:moveTo>
                <a:arcTo wR="3600" hR="3600" stAng="0" swAng="5400000"/>
                <a:lnTo>
                  <a:pt x="0" y="24957"/>
                </a:lnTo>
                <a:arcTo wR="3600" hR="3600" stAng="16200000" swAng="5400000"/>
                <a:lnTo>
                  <a:pt x="18000" y="2855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15228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2698560" y="400464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1452240" y="4005000"/>
            <a:ext cx="576360" cy="719280"/>
          </a:xfrm>
          <a:prstGeom prst="flowChartMerge">
            <a:avLst/>
          </a:prstGeom>
          <a:solidFill>
            <a:srgbClr val="ff6600"/>
          </a:solidFill>
          <a:ln w="88920">
            <a:solidFill>
              <a:srgbClr val="5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2175120" cy="288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ΑΚΤ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1557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ΔΟΝΤ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ΓΟΥ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2349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ΑΥ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Υ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3141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ΣΤΟ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ΜΑ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0" y="3933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ΡΟΣΩΠ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ΠΑΤΟΥΣ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88000" y="472428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537000"/>
                </a:solidFill>
                <a:latin typeface="Arial Rounded MT Bold"/>
              </a:rPr>
              <a:t>ΧΕΙΛ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5300640"/>
            <a:ext cx="151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537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ΠΑΤΟΥΣΑ</a:t>
            </a:r>
            <a:endParaRPr b="0" lang="en-US" sz="1800" spc="1" strike="noStrike">
              <a:ln w="38160">
                <a:solidFill>
                  <a:srgbClr val="537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116000" y="2636640"/>
            <a:ext cx="719280" cy="93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68360" y="3357720"/>
            <a:ext cx="35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59:45Z</dcterms:created>
  <dc:creator>nocas</dc:creator>
  <dc:description/>
  <dc:language>en-US</dc:language>
  <cp:lastModifiedBy>Marianna</cp:lastModifiedBy>
  <dcterms:modified xsi:type="dcterms:W3CDTF">2009-12-03T10:08:07Z</dcterms:modified>
  <cp:revision>12</cp:revision>
  <dc:subject/>
  <dc:title>Diapositivo 1</dc:title>
</cp:coreProperties>
</file>